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43B3-8575-4A99-B6E3-63EAA5F99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D8E4-E90F-4949-BCF9-C29704AA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9F11F-BF4C-47EB-91E3-5407D82D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A5E9A-51DD-4F40-92E7-42E1B753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5EB1A-30EA-4ED9-A89C-871A2CF6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549AA-DB5A-47C4-AC2A-94C21B36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99F4A-0D45-4521-A04A-224243CC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59A41-591B-467B-8120-E3933A19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D3BA8-6D00-4BC3-94D1-89B6D034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2E757-75A6-4BF4-967D-E7F28798B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FB72C-944E-427B-B5E6-1DCA5923C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24A141-C118-42FA-9DBA-4939B9C71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35C2-64C0-4A32-A899-34AA6ECE9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973B8-B4B8-47DE-97B0-BDC72B9F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E9B9A3-396F-4158-A306-C7807102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A4981-B68F-4597-8936-82680A90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7EC488-EB39-49C1-8210-86FBAF92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F1097F-B219-4860-8E89-74055EB3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52D77F-3542-42F5-AA58-4CEAD45C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D7A1CB-311C-4A36-8A48-476C7898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3E16BB-7344-4DC7-9587-FA3C2384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31F96-4F20-4321-8C2C-A446A110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3D462E-E925-437A-89F2-D02167A19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5CD8-1A7F-40BC-B7AC-32C10183E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D524DB-B0D9-4AE8-99C3-18BA156B4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23732-213F-4C82-A9D6-1639E9EB0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48602-AE49-418B-AAD2-1E370D4E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C200B-E605-47FD-9C6B-A78B3E42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C0293-D3B7-4F09-8719-59F50191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F342A3-5DC6-4A96-B392-8488026D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87A09-35CF-4EAF-A6BC-8AE6A4AF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CA1D1-EA71-443A-BEE5-E6C38DFF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422FE-929D-48CB-9B3A-B533FC6F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FE6E7-577D-4229-B199-FCC4BCD1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823F-5F53-4C6A-B3C9-5723AF4C2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1B86E-7C08-4A25-AB47-70328F24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E57D3-FA8A-4B39-B947-84D254E8A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1FEB7-93F6-46FC-9E39-E1DD3E2BC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DAA090-0F69-49C2-A566-487C89A1C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644727-3F4D-425A-8C71-F79B4A8C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0DD7ED-85D6-41FB-93D5-66930952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95B7F2-7BDF-4752-AD1E-4C744106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9DDDD3-F467-4C9F-A70A-62E43E2C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C98839-009C-4B60-87FC-62909C91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A6B344-38FD-4A76-80BC-C4EE421E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46D4-1D53-41DD-A207-DDBF5D99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87D53B-4502-4C0D-80E2-D26F5B1F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07EFDB-3638-4F22-8967-2CF6ABB8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94F698-FBC1-43C6-9AB7-8D55098A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2976EA-85D4-4228-9A1E-9061D36A3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1301D8-E726-43A4-A6F9-4EF7BE2EA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3E8B-3A4C-40D0-B389-473FD376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CBE1-64C0-4FD8-8DCA-9A0EE6B7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2232-24EC-4123-B2C8-2C4E544C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0526-A4E7-4B50-B0D0-A66CD8E4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0C5D-EA99-4941-B69B-E50529EF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1C1C-5DF5-4383-93AF-F06928C6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5A26-FCFF-4946-8E42-1B1D7ADE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262B-861A-4AEE-909F-7380BB34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A63B-1654-4E26-BC8E-AB4CD016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899E-2C55-4F00-AC86-8963CC7CA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85C2-974E-429F-9A8E-8A6BA91BD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3031C-A676-4573-B989-A3FA445F2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6DFF8-DC2A-408D-84E3-099FEE72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2111E-657E-4CDA-9E14-F64D384E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6C21B-DAB0-4246-82CC-98E8E728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40075-A6C8-4AC5-AC0B-3FA8F812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4F65-FF23-4321-948A-DEA6CF7E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AAF6C-4FE8-4519-9B95-DBFD3446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FD5F3-E230-4078-BCD9-8F29AFDF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F06D4-6A83-43A2-9BA9-EE8413BD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51D54-0C77-4D61-B86A-B67669DF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511B8-BF2E-45B6-995E-6CCD9D7F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CB118-A59F-4264-ADB3-1B12B76DC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AAF5B-A245-45AE-83F9-052BAD76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A4811-1062-4D7D-8854-4D1DDAF68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99965-EB26-4F66-BAD4-CF3025F9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30664-F9ED-4CAB-9C2E-B26484B2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AA91-11C9-4CBE-96E3-DB4A26B5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1F861-1B26-47B3-A717-238E1603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CC232-08CF-4498-848C-59242B66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3D0FF-B6FA-4AAC-884E-4237FBC3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36379-8A36-41F8-9149-26500A88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53D01-AA8E-4DF0-83DE-CF9A04B7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F4F66-166E-4A19-A276-BE181DF8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90814-0A66-47AB-9925-3098B1B7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7FD52-52B4-4B1B-8419-C44671958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83552-F62A-4478-B8ED-C8BA28CA6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E0F20-C937-4D80-8A78-B2B02F9B8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42BF-0158-40AF-A263-2DB7EC20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2A9DF-495B-47DA-9DAE-D0105F02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B7DFE-1B2B-4292-B5F2-881AD0E7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A27C2-F92D-46BF-8214-2FE4E10D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0A41C-1B1C-4DC7-A911-1F38ADF1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8D46B-CDDF-4FB2-95E6-9958EA2D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770D1-F7C8-4D3C-A4ED-3E2243F4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DC0B2-6FCD-41E0-8327-B7CE22C9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90137-48CD-4571-B6A5-7B08146A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F687A-8F97-4829-A89D-D2F55331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F8158-5586-42DF-945A-B55DA21AF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1CD7-F197-4BD9-8338-D76F69D3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CA1D5-216B-4D36-8FCA-CE3D61CCB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7BDE3-4C49-48FE-9810-7CD520B4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91A12-1224-4376-8BDA-000D82EA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17336-00E3-4837-8A1A-A8DDC945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71FF6-8F86-4286-A095-46E197E3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964BA-C5C6-4146-854A-4F6A4F07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9A7AD-ED13-4E26-B7FC-73EC6A35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2DDB4-5E47-447D-A97D-97319734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E24A8-3B83-4C2A-8AE0-0B934437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27E25-87EC-4570-B0D7-6E0B635B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7A19-3670-45B5-968D-A9985C6F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6C98A-5490-4375-BC5F-837C3873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8D89A-AD75-4F42-A8C6-C5D496740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FF7AD-DF26-4346-8C11-880B6679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69CBE-14EC-454B-BEAA-D633CB362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1CB53-93E7-4B51-9811-3D6A62A5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47C96-D778-4C15-ABFC-08E8D538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5E382-D4DD-47D4-9387-3485BF84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67D9C-D538-47CE-B116-9986AB8B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B1ADB-24E3-4DCA-975F-952ECCA9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F91D6-B4C5-45C3-90FA-07CA55D7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548E-2C23-47C7-9BCF-0F8A84E3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08185-4188-4E7E-A558-7DB51AFE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7A752-4B4D-46F6-BB79-C1841140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0C1B7-4356-4F7D-96CB-0D77DB6C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E7667-6F60-4AE2-8E0F-FB247E6F2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61A5E-0C59-4724-AF85-186C65B5B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A5579-0681-4A94-AFF7-BB8F3FBD3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CA479-EFE1-46DB-84A5-EAAD3DBD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732DD-126B-499C-A92B-6DBEAFB5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920BF-B52B-4DB9-AAA7-C48563C9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9E921-9C5A-4BC3-A4E0-29B3DB6E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FDA2-C2F0-408D-B8C8-AFF8F767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42A90-4903-4F46-BF00-089B88DB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3F12E-BAEA-4DDD-ADA5-3335B8E9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D64F2-8399-4D53-971C-8A8F30A3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FA375-92D0-42C4-8232-490EC2CC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F2298-B29F-4B7F-9418-FEEBC7EC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B3DBA-4414-48CB-A55D-968590C2C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CFDA3-3406-4AFC-A608-035B140E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A01B7-4AAC-410E-8D29-E60E1E041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1A3C7-0ECF-435F-8377-6B557489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1E2AA-298F-4877-BDC6-EEA95676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BA23-0D70-4BC7-8980-854DB5F46D8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4E2C-40C1-4BD4-8EE5-97A18699235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554C-29CD-4E81-80FB-CAD4575EAE5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04BB-5298-4FCE-ACD8-88F4B2C0956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7A85-B755-4723-A2BF-89EEAACC5A2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2165-3A0C-4BED-A022-7A787D2A2DC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281B-2246-422A-96D2-CB0C093B86A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386C-C742-411F-AB0F-98CB4F4887B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6B24-E6A1-4F40-A2E9-F7EE6FC04D2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01B6-74A1-4CF0-9D2E-BC764A62CD1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65FB-E5BE-4CD5-B0A3-4F85100DBAF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DC0E-884C-404D-8105-6FDD1976DB5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65 Tam, kde v Bo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om men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am, kde v Božom me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nie vždy vďaky hl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de ľud Boží ver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ykupuje ča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eriaci tam tvori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evný bratský kru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rdcia láskou hori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de je Boží Du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am, kde láska večn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áva silu 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Múdrosť nekonečn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tavia v nás svoj chr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ánovi kde chvál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nejú v každý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radosť, pokoj stál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obl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uje nás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am, kde všetky túžb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letia k nebe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radosť z vernej služb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cestu kráti ná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apriek bojom, stra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pred vždy ide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 novej večnej vla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s Pánom dôjdeme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7:51:57Z</dcterms:modified>
  <cp:revision>23</cp:revision>
  <dc:subject/>
  <dc:title>Je veľký náš Pán, on slávy je Kráľ Nech do všetkých strán  spev vrúcnych znie chvál.</dc:title>
</cp:coreProperties>
</file>